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F806-1093-4D47-B891-B7DDC258DE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8AEA-AD06-4493-BDE1-C6E8423B05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7CBC-3614-4C36-9822-659B9F9DF4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EAFF-1CF7-44ED-9183-A7CE6DD77C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B285-D126-469A-823F-576A76B520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DD7C-5679-4A1F-89DC-D3218DE168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0258-1A61-427B-9CFF-47AE6AD811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A16C-E03C-484E-950C-51122327C2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7B63-8171-4D66-856E-256D85C926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84E1-7A97-4E44-91A2-AB4EFB857F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E969-C223-4E3D-B5A5-40ECC24CBA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D6C2-E7C1-4C44-9254-28A610F5DC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062D-E4BA-44B3-8133-E9A0D1EF52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Women's Rights 1890-1920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6" descr="2642714"/>
          <p:cNvPicPr/>
          <p:nvPr/>
        </p:nvPicPr>
        <p:blipFill>
          <a:blip r:embed="rId1"/>
          <a:stretch/>
        </p:blipFill>
        <p:spPr>
          <a:xfrm>
            <a:off x="3406680" y="2514600"/>
            <a:ext cx="291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ounded Rectangle 13"/>
          <p:cNvSpPr/>
          <p:nvPr/>
        </p:nvSpPr>
        <p:spPr>
          <a:xfrm>
            <a:off x="990720" y="1263600"/>
            <a:ext cx="7086600" cy="9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1444680" y="480060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Woman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 Christian Temperance Uni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grew steadily until the passage of the 18th Amendment which banned the sale and production of alcohol in 1919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371600" y="129528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supported the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temperance mov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209680" y="2895480"/>
            <a:ext cx="44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felt that alcohol often led men to spend their earnings on liquor, neglect their families, and abuse their wi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248520" y="1752480"/>
            <a:ext cx="2438280" cy="3794400"/>
          </a:xfrm>
          <a:prstGeom prst="rect">
            <a:avLst/>
          </a:prstGeom>
          <a:gradFill rotWithShape="0">
            <a:gsLst>
              <a:gs pos="0">
                <a:srgbClr val="ffcc66">
                  <a:alpha val="75294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AutoShape 5"/>
          <p:cNvSpPr/>
          <p:nvPr/>
        </p:nvSpPr>
        <p:spPr>
          <a:xfrm flipH="1" rot="5400000">
            <a:off x="2980440" y="2123640"/>
            <a:ext cx="3791160" cy="3048120"/>
          </a:xfrm>
          <a:prstGeom prst="upArrowCallout">
            <a:avLst>
              <a:gd name="adj1" fmla="val 25833"/>
              <a:gd name="adj2" fmla="val 25002"/>
              <a:gd name="adj3" fmla="val 16750"/>
              <a:gd name="adj4" fmla="val 42452"/>
            </a:avLst>
          </a:prstGeom>
          <a:gradFill rotWithShape="0">
            <a:gsLst>
              <a:gs pos="0">
                <a:srgbClr val="83d7e5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AutoShape 5"/>
          <p:cNvSpPr/>
          <p:nvPr/>
        </p:nvSpPr>
        <p:spPr>
          <a:xfrm flipH="1" rot="5400000">
            <a:off x="83160" y="2125440"/>
            <a:ext cx="3794400" cy="3048120"/>
          </a:xfrm>
          <a:prstGeom prst="upArrowCallout">
            <a:avLst>
              <a:gd name="adj1" fmla="val 25014"/>
              <a:gd name="adj2" fmla="val 24015"/>
              <a:gd name="adj3" fmla="val 16250"/>
              <a:gd name="adj4" fmla="val 42452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324480" y="2066760"/>
            <a:ext cx="228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1921, Sanger founded 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merican Birth Control Leagu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o make information available to women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76280" y="1886040"/>
            <a:ext cx="2362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1916,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Margaret Sa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opened the first birth control clinic. She believed tha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having fewer children would lead to healthier wo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352680" y="2395440"/>
            <a:ext cx="24386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he was jailed. The courts eventually ruled that doctors could give out family planning inform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6"/>
          <p:cNvSpPr/>
          <p:nvPr/>
        </p:nvSpPr>
        <p:spPr>
          <a:xfrm flipH="1" rot="10792800">
            <a:off x="1266120" y="1499400"/>
            <a:ext cx="6553080" cy="1623960"/>
          </a:xfrm>
          <a:prstGeom prst="upArrowCallout">
            <a:avLst>
              <a:gd name="adj1" fmla="val 45737"/>
              <a:gd name="adj2" fmla="val 42370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009800" y="3200400"/>
            <a:ext cx="708660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Ida B. Well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ounded 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National Association of Colored Wom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or NACW in 189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NACW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upported day care centers for the children of working par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ells also worked for suffrage, to end lynchings, and to stop segregation in the Chicago schoo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906560" y="160020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frican Americans also worked for wome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righ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9"/>
          <p:cNvSpPr/>
          <p:nvPr/>
        </p:nvSpPr>
        <p:spPr>
          <a:xfrm>
            <a:off x="838080" y="1295280"/>
            <a:ext cx="74678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198"/>
          <p:cNvSpPr/>
          <p:nvPr/>
        </p:nvSpPr>
        <p:spPr>
          <a:xfrm>
            <a:off x="1143000" y="144792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Ultimatel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uffrag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as seen as the only way to ensure that government protected children, fostered education, and supported family lif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447920" y="3276720"/>
            <a:ext cx="6172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ince the 1860s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usan B. Anthon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Elizabeth Cady Stant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rked relentlessly f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suffrage - their right to vote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till, by the 1890s, only Wyom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 Colorado allowed women to vo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0"/>
          <p:cNvSpPr/>
          <p:nvPr/>
        </p:nvSpPr>
        <p:spPr>
          <a:xfrm flipH="1" rot="10792800">
            <a:off x="834480" y="1219320"/>
            <a:ext cx="7468920" cy="2286000"/>
          </a:xfrm>
          <a:prstGeom prst="upArrowCallout">
            <a:avLst>
              <a:gd name="adj1" fmla="val 39362"/>
              <a:gd name="adj2" fmla="val 43321"/>
              <a:gd name="adj3" fmla="val 27056"/>
              <a:gd name="adj4" fmla="val 65114"/>
            </a:avLst>
          </a:prstGeom>
          <a:gradFill rotWithShape="0">
            <a:gsLst>
              <a:gs pos="0">
                <a:srgbClr val="ffcc66">
                  <a:alpha val="97254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990720" y="129528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1890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arrie Chapman Catt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esident of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American Suffrage Association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omoted a two-part strategy to gain the vote for wom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86000" y="3478320"/>
            <a:ext cx="5257800" cy="20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WS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lobbied Congress for a constitutional amend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upporters, call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uffragett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, used the referendum process to pass state law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29"/>
          <p:cNvSpPr/>
          <p:nvPr/>
        </p:nvSpPr>
        <p:spPr>
          <a:xfrm>
            <a:off x="1600200" y="330516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entury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1600200" y="42670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entury"/>
                <a:ea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hsus_ch_017_s.2_alicepaul_dd.jpg"/>
          <p:cNvPicPr/>
          <p:nvPr/>
        </p:nvPicPr>
        <p:blipFill>
          <a:blip r:embed="rId1"/>
          <a:stretch/>
        </p:blipFill>
        <p:spPr>
          <a:xfrm>
            <a:off x="3786120" y="2554200"/>
            <a:ext cx="4291200" cy="2779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9"/>
          <p:cNvSpPr/>
          <p:nvPr/>
        </p:nvSpPr>
        <p:spPr>
          <a:xfrm>
            <a:off x="990720" y="1492200"/>
            <a:ext cx="73152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7, social activists led b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Alice Pau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ormed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National Woman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 Party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heir radical actions made the suffrage movem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goals seem les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dramatic by comparis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19320" y="3352680"/>
            <a:ext cx="2743200" cy="18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NWP picketed the White Hou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undreds of suffragettes were arrested and jail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/>
          <p:cNvSpPr/>
          <p:nvPr/>
        </p:nvSpPr>
        <p:spPr>
          <a:xfrm flipH="1" rot="5400000">
            <a:off x="1028160" y="1866960"/>
            <a:ext cx="2895840" cy="3124080"/>
          </a:xfrm>
          <a:prstGeom prst="upArrowCallout">
            <a:avLst>
              <a:gd name="adj1" fmla="val 19344"/>
              <a:gd name="adj2" fmla="val 18421"/>
              <a:gd name="adj3" fmla="val 16956"/>
              <a:gd name="adj4" fmla="val 45388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1515960"/>
            <a:ext cx="6553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962520" y="1905120"/>
            <a:ext cx="4419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National Association Opposed to Woman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 Suffrag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eared voting would distract women from their family ro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any men and women were offended by Paul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 protes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in front of the White House. A mob shredded her signs and pi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276200" y="2716200"/>
            <a:ext cx="19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ot all women supported suffr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ch17_maps_hsus_se_p0562"/>
          <p:cNvPicPr/>
          <p:nvPr/>
        </p:nvPicPr>
        <p:blipFill>
          <a:blip r:embed="rId1"/>
          <a:stretch/>
        </p:blipFill>
        <p:spPr>
          <a:xfrm>
            <a:off x="2438280" y="1467000"/>
            <a:ext cx="606600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838080" y="1600200"/>
            <a:ext cx="2057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tates gradually granted suffrage to women, starting in the western st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9"/>
          <p:cNvSpPr/>
          <p:nvPr/>
        </p:nvSpPr>
        <p:spPr>
          <a:xfrm>
            <a:off x="762120" y="144792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June 1919,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ineteenth Amendment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as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assed by Congress. The amendment stated that the vote </a:t>
            </a:r>
            <a:r>
              <a:rPr b="1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“</a:t>
            </a:r>
            <a:r>
              <a:rPr b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hall not be denied or abridged on account of sex.</a:t>
            </a:r>
            <a:r>
              <a:rPr b="1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”</a:t>
            </a:r>
            <a:r>
              <a:rPr b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066680" y="320040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ue to the efforts of the suffragists, women nationwide voted in a presidential election for the first time on November 2, 192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8" descr="2642714"/>
          <p:cNvPicPr/>
          <p:nvPr/>
        </p:nvPicPr>
        <p:blipFill>
          <a:blip r:embed="rId1"/>
          <a:stretch/>
        </p:blipFill>
        <p:spPr>
          <a:xfrm>
            <a:off x="4648320" y="2666880"/>
            <a:ext cx="25174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1135080" y="2133720"/>
            <a:ext cx="6873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impact of changes in 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education on 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roles in socie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what women did to win worker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ights and to improve family lif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the tactics women used to win passage of the Nineteenth Amend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5760" y="13701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5760" y="137016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143000" y="1828800"/>
            <a:ext cx="762012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5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lorence Kelle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ounded the National Consumer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League (NC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5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Consumer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 League (NCL)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roup that labeled and publicized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oods produced under fair, safe, and healthy working condition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5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temperance moveme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imed at stopping alcohol abuse and the problems created by 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5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argaret Sange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nurse who opened the first birth control clin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5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Ida B. Well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helped to found the National Association of Colored Women (NAC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5760" y="13716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066680" y="1981080"/>
            <a:ext cx="762012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uffrag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he right to vo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arrie Chapman Cat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esident of the NAWSA, campaigned to pass 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suffrage at both the state and national leve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American Woman Suffrage Associ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roup that worked on the state and national levels to earn women the right to vo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Alice Pau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social activist, led women to picket at the White House to get the right to vo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ineteenth Amendme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1919, constitutional amendment that granted women the right to vo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2"/>
          <p:cNvSpPr/>
          <p:nvPr/>
        </p:nvSpPr>
        <p:spPr>
          <a:xfrm>
            <a:off x="1476360" y="2971800"/>
            <a:ext cx="6781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early 1900s, many women were no longer content to play a limited role in society. Activists helped bring about Progressive reforms including 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suffrag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men would continue the struggle to expand their roles and rights in the futu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447920" y="15238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ow did women of the Progressive Era make progress and win the right to vo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9" descr="HSUS09_EQ_logoSmall"/>
          <p:cNvPicPr/>
          <p:nvPr/>
        </p:nvPicPr>
        <p:blipFill>
          <a:blip r:embed="rId1"/>
          <a:stretch/>
        </p:blipFill>
        <p:spPr>
          <a:xfrm>
            <a:off x="736560" y="175248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29"/>
          <p:cNvSpPr/>
          <p:nvPr/>
        </p:nvSpPr>
        <p:spPr>
          <a:xfrm>
            <a:off x="3962520" y="480060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ever, mos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oor women continued to labor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ong hours, often under dangerous or dirty condi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1028880" y="1371600"/>
            <a:ext cx="72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y the early 1900s, a growing number of middle-class women wanted to do more than stay at home as wives and moth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2819520"/>
            <a:ext cx="411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lleges like Pennsylvania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Bryn Mawr and New York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School of Social Work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rmed middle-class women with education and modern ide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 flipH="1" rot="5400000">
            <a:off x="1180800" y="2019240"/>
            <a:ext cx="3200400" cy="3124080"/>
          </a:xfrm>
          <a:prstGeom prst="upArrowCallout">
            <a:avLst>
              <a:gd name="adj1" fmla="val 18299"/>
              <a:gd name="adj2" fmla="val 16467"/>
              <a:gd name="adj3" fmla="val 16958"/>
              <a:gd name="adj4" fmla="val 44166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29"/>
          <p:cNvSpPr/>
          <p:nvPr/>
        </p:nvSpPr>
        <p:spPr>
          <a:xfrm>
            <a:off x="1428840" y="245736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 reforms addressed working wome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condi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343400" y="1905120"/>
            <a:ext cx="380988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 indent="-2286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worked long hour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factories and sweatshops, or as maids, laundresses or servan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28600" indent="-2286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wer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aid less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nd often did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 get to keep their wa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28600" indent="-2286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wer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intimidated and bullied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y emplo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 rot="10800000">
            <a:off x="762120" y="1428480"/>
            <a:ext cx="7619760" cy="1295280"/>
          </a:xfrm>
          <a:prstGeom prst="rect">
            <a:avLst/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27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133720" y="3200400"/>
            <a:ext cx="48290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ull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regon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the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upreme Court ruled that states could legally limit a women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work day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is ruling recognize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unique role of women a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92320" y="15048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eformers saw limiting the length of a woma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work day as an important goal and succeeded in several st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0"/>
          <p:cNvSpPr/>
          <p:nvPr/>
        </p:nvSpPr>
        <p:spPr>
          <a:xfrm flipH="1" rot="10792800">
            <a:off x="835920" y="1445760"/>
            <a:ext cx="7469280" cy="2210040"/>
          </a:xfrm>
          <a:prstGeom prst="upArrowCallout">
            <a:avLst>
              <a:gd name="adj1" fmla="val 39371"/>
              <a:gd name="adj2" fmla="val 43326"/>
              <a:gd name="adj3" fmla="val 27056"/>
              <a:gd name="adj4" fmla="val 65114"/>
            </a:avLst>
          </a:prstGeom>
          <a:gradFill rotWithShape="0">
            <a:gsLst>
              <a:gs pos="0">
                <a:srgbClr val="ffcc66">
                  <a:alpha val="97254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ounded Rectangle 13"/>
          <p:cNvSpPr/>
          <p:nvPr/>
        </p:nvSpPr>
        <p:spPr>
          <a:xfrm>
            <a:off x="914400" y="3733920"/>
            <a:ext cx="7467480" cy="266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066680" y="144792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899,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lorence Kelle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helped found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Consumers Leag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hich aimed to make workplaces safer and urged women to buy products made in safe condi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990720" y="3887640"/>
            <a:ext cx="739116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lorence Kelley also founded the 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Trade Union League which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worked for a federal minimum wage and a national eight-hour workd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TUL also helped support families who refused to work in unsafe or unfair condi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0:32:47Z</dcterms:modified>
  <cp:revision>282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